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1DAF-8E84-4D42-9682-30918F8DC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F967-B36D-4C7C-8E10-3678014A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76B-4B1B-4605-8386-1AB22094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7038-F29D-4ECA-9A92-F282F592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D0CF-5143-4DDE-9DB7-75CB4760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A2BB-AC84-4144-8F5C-8E69F66C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C080-BF89-4A67-A5B4-4FF585DF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8B4-02CA-4C1D-BC09-975E44E8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573-EC2B-4EB0-A0B9-AE35817A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8CB-BC26-473B-8137-1F67E880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822-A9F4-4770-8B9D-428959C3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96D3-3D2F-40A2-856A-43003998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4CB2-3EFE-4F7B-BD6E-CDDDC96D61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Verner Panton 2"/>
          <p:cNvPicPr/>
          <p:nvPr/>
        </p:nvPicPr>
        <p:blipFill>
          <a:blip r:embed="rId1"/>
          <a:srcRect l="4544" t="13178" r="4688" b="3700"/>
          <a:stretch/>
        </p:blipFill>
        <p:spPr>
          <a:xfrm>
            <a:off x="4130640" y="2027160"/>
            <a:ext cx="3840120" cy="41752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143720" y="701640"/>
            <a:ext cx="40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ING SP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learning space bench"/>
          <p:cNvPicPr/>
          <p:nvPr/>
        </p:nvPicPr>
        <p:blipFill>
          <a:blip r:embed="rId1"/>
          <a:stretch/>
        </p:blipFill>
        <p:spPr>
          <a:xfrm>
            <a:off x="685800" y="457200"/>
            <a:ext cx="7772400" cy="57736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2385720" y="6308640"/>
            <a:ext cx="40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 learn in many different way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Kahn Exeter Library 1"/>
          <p:cNvPicPr/>
          <p:nvPr/>
        </p:nvPicPr>
        <p:blipFill>
          <a:blip r:embed="rId1"/>
          <a:stretch/>
        </p:blipFill>
        <p:spPr>
          <a:xfrm>
            <a:off x="685800" y="343080"/>
            <a:ext cx="777708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762120" y="62164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o you like about this space? Who does this space work for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Bronx multipurpose_new"/>
          <p:cNvPicPr/>
          <p:nvPr/>
        </p:nvPicPr>
        <p:blipFill>
          <a:blip r:embed="rId1"/>
          <a:stretch/>
        </p:blipFill>
        <p:spPr>
          <a:xfrm>
            <a:off x="1714680" y="390600"/>
            <a:ext cx="5715000" cy="561960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6"/>
          <p:cNvSpPr/>
          <p:nvPr/>
        </p:nvSpPr>
        <p:spPr>
          <a:xfrm>
            <a:off x="2362320" y="6248520"/>
            <a:ext cx="44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they learning? Do you learn this wa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258-L!brary-Entrance"/>
          <p:cNvPicPr/>
          <p:nvPr/>
        </p:nvPicPr>
        <p:blipFill>
          <a:blip r:embed="rId1"/>
          <a:stretch/>
        </p:blipFill>
        <p:spPr>
          <a:xfrm>
            <a:off x="1219320" y="533520"/>
            <a:ext cx="2084400" cy="2571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58-Overhang-and-Bookshelf"/>
          <p:cNvPicPr/>
          <p:nvPr/>
        </p:nvPicPr>
        <p:blipFill>
          <a:blip r:embed="rId2"/>
          <a:stretch/>
        </p:blipFill>
        <p:spPr>
          <a:xfrm>
            <a:off x="1287360" y="3886200"/>
            <a:ext cx="2065320" cy="2565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Library Interior"/>
          <p:cNvPicPr/>
          <p:nvPr/>
        </p:nvPicPr>
        <p:blipFill>
          <a:blip r:embed="rId3"/>
          <a:stretch/>
        </p:blipFill>
        <p:spPr>
          <a:xfrm>
            <a:off x="4114800" y="1143000"/>
            <a:ext cx="4730760" cy="50292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7"/>
          <p:cNvSpPr/>
          <p:nvPr/>
        </p:nvSpPr>
        <p:spPr>
          <a:xfrm>
            <a:off x="3505320" y="632448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re do we lear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xs Basic House Martin Ruiz de Azua 1"/>
          <p:cNvPicPr/>
          <p:nvPr/>
        </p:nvPicPr>
        <p:blipFill>
          <a:blip r:embed="rId1"/>
          <a:stretch/>
        </p:blipFill>
        <p:spPr>
          <a:xfrm>
            <a:off x="2971800" y="533520"/>
            <a:ext cx="289872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1905120" y="324648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you carry your learning space with you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xs Basic House Martin Ruiz de Azua 2"/>
          <p:cNvPicPr/>
          <p:nvPr/>
        </p:nvPicPr>
        <p:blipFill>
          <a:blip r:embed="rId1"/>
          <a:stretch/>
        </p:blipFill>
        <p:spPr>
          <a:xfrm>
            <a:off x="2971800" y="457200"/>
            <a:ext cx="5931000" cy="5943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xs Basic House Martin Ruiz de Azua 1"/>
          <p:cNvPicPr/>
          <p:nvPr/>
        </p:nvPicPr>
        <p:blipFill>
          <a:blip r:embed="rId2"/>
          <a:stretch/>
        </p:blipFill>
        <p:spPr>
          <a:xfrm>
            <a:off x="457200" y="685800"/>
            <a:ext cx="289872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4987800" y="838080"/>
          <a:ext cx="373392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7800" y="838080"/>
                    <a:ext cx="37339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4" name="Picture 5" descr="scan0001"/>
          <p:cNvPicPr/>
          <p:nvPr/>
        </p:nvPicPr>
        <p:blipFill>
          <a:blip r:embed="rId3"/>
          <a:stretch/>
        </p:blipFill>
        <p:spPr>
          <a:xfrm>
            <a:off x="542880" y="876240"/>
            <a:ext cx="4224240" cy="2862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1635120" y="5867280"/>
            <a:ext cx="58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is this designed for? Could you learn in this sp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ronx entry"/>
          <p:cNvPicPr/>
          <p:nvPr/>
        </p:nvPicPr>
        <p:blipFill>
          <a:blip r:embed="rId1"/>
          <a:stretch/>
        </p:blipFill>
        <p:spPr>
          <a:xfrm>
            <a:off x="3276720" y="1981080"/>
            <a:ext cx="5494320" cy="4368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ENTRANCE PORTAL 1"/>
          <p:cNvPicPr/>
          <p:nvPr/>
        </p:nvPicPr>
        <p:blipFill>
          <a:blip r:embed="rId2"/>
          <a:stretch/>
        </p:blipFill>
        <p:spPr>
          <a:xfrm>
            <a:off x="228600" y="228600"/>
            <a:ext cx="4327560" cy="28195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6"/>
          <p:cNvSpPr/>
          <p:nvPr/>
        </p:nvSpPr>
        <p:spPr>
          <a:xfrm>
            <a:off x="1828800" y="6399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 now think about school spaces in different way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xs GucklHupf Austria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2654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386280" y="6418440"/>
            <a:ext cx="137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kHupf, Aust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800360" y="480060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ce can be adaptable for different needs and u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xs Storytelling Shed Cranbrook"/>
          <p:cNvPicPr/>
          <p:nvPr/>
        </p:nvPicPr>
        <p:blipFill>
          <a:blip r:embed="rId1"/>
          <a:stretch/>
        </p:blipFill>
        <p:spPr>
          <a:xfrm>
            <a:off x="1432080" y="1471680"/>
            <a:ext cx="6278400" cy="39132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5"/>
          <p:cNvSpPr/>
          <p:nvPr/>
        </p:nvSpPr>
        <p:spPr>
          <a:xfrm>
            <a:off x="3741120" y="5959440"/>
            <a:ext cx="28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aces can be welcom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380880" y="1066680"/>
            <a:ext cx="80773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Desig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Step 1.  Def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What?  We are redesigning  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Personal Learning 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Who? Who are we designing fo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                                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Mysel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How? How do people learn? How do people 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experience spa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xs Hairy House England 1"/>
          <p:cNvPicPr/>
          <p:nvPr/>
        </p:nvPicPr>
        <p:blipFill>
          <a:blip r:embed="rId1"/>
          <a:stretch/>
        </p:blipFill>
        <p:spPr>
          <a:xfrm>
            <a:off x="1143000" y="222120"/>
            <a:ext cx="6715080" cy="5751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888000" y="60339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 not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83760" y="6418440"/>
            <a:ext cx="166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iry House, Eng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xs Hairy House England 2"/>
          <p:cNvPicPr/>
          <p:nvPr/>
        </p:nvPicPr>
        <p:blipFill>
          <a:blip r:embed="rId1"/>
          <a:stretch/>
        </p:blipFill>
        <p:spPr>
          <a:xfrm>
            <a:off x="681120" y="852480"/>
            <a:ext cx="77817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1523880" y="10666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ill my space look lik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141200" y="701640"/>
            <a:ext cx="6141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2:  Investigate and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3.  Brainst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143000" y="29718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4.  Choose a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5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Describe your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219320" y="4343400"/>
            <a:ext cx="541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6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Evaluate your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Step 7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ccff"/>
                </a:solidFill>
                <a:latin typeface="Arial"/>
              </a:rPr>
              <a:t>Present your desig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logoSC06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2238480" y="165240"/>
            <a:ext cx="4635360" cy="61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5" descr="Hertzberger Pedastle"/>
          <p:cNvPicPr/>
          <p:nvPr/>
        </p:nvPicPr>
        <p:blipFill>
          <a:blip r:embed="rId1"/>
          <a:stretch/>
        </p:blipFill>
        <p:spPr>
          <a:xfrm>
            <a:off x="2325600" y="228600"/>
            <a:ext cx="4453200" cy="59436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2871720" y="640080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defines a learning sp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ertzberger Bus"/>
          <p:cNvPicPr/>
          <p:nvPr/>
        </p:nvPicPr>
        <p:blipFill>
          <a:blip r:embed="rId1"/>
          <a:stretch/>
        </p:blipFill>
        <p:spPr>
          <a:xfrm>
            <a:off x="1209600" y="871560"/>
            <a:ext cx="6724800" cy="46576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3209760" y="5791320"/>
            <a:ext cx="27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es learning ever sto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Roman Theatre Turkey 100ad"/>
          <p:cNvPicPr/>
          <p:nvPr/>
        </p:nvPicPr>
        <p:blipFill>
          <a:blip r:embed="rId1"/>
          <a:stretch/>
        </p:blipFill>
        <p:spPr>
          <a:xfrm>
            <a:off x="1108080" y="228600"/>
            <a:ext cx="6927840" cy="53863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2387160" y="5943600"/>
            <a:ext cx="44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 have been learning for a long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Roman theatre from 100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earning space auditorium"/>
          <p:cNvPicPr/>
          <p:nvPr/>
        </p:nvPicPr>
        <p:blipFill>
          <a:blip r:embed="rId1"/>
          <a:stretch/>
        </p:blipFill>
        <p:spPr>
          <a:xfrm>
            <a:off x="2146320" y="182520"/>
            <a:ext cx="5141880" cy="5761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2386080" y="607068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ople learn in many different spaces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learning space fire"/>
          <p:cNvPicPr/>
          <p:nvPr/>
        </p:nvPicPr>
        <p:blipFill>
          <a:blip r:embed="rId1"/>
          <a:stretch/>
        </p:blipFill>
        <p:spPr>
          <a:xfrm>
            <a:off x="457200" y="490680"/>
            <a:ext cx="8229600" cy="54194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3324240" y="6172200"/>
            <a:ext cx="249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bout this sp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learning space computer"/>
          <p:cNvPicPr/>
          <p:nvPr/>
        </p:nvPicPr>
        <p:blipFill>
          <a:blip r:embed="rId1"/>
          <a:stretch/>
        </p:blipFill>
        <p:spPr>
          <a:xfrm>
            <a:off x="2068560" y="274680"/>
            <a:ext cx="5006880" cy="5851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2200320" y="6248520"/>
            <a:ext cx="47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ype of learning happens in this spa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21:24:50Z</dcterms:created>
  <dc:creator>Alyse Wheelock</dc:creator>
  <dc:description/>
  <dc:language>en-US</dc:language>
  <cp:lastModifiedBy>training</cp:lastModifiedBy>
  <dcterms:modified xsi:type="dcterms:W3CDTF">2009-11-07T15:30:49Z</dcterms:modified>
  <cp:revision>3</cp:revision>
  <dc:subject/>
  <dc:title>Slide 1</dc:title>
</cp:coreProperties>
</file>